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599840" y="111240"/>
            <a:ext cx="747252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2370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1748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992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72370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1748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299280" y="-3196800"/>
            <a:ext cx="277344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599840" y="111240"/>
            <a:ext cx="747252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2370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748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992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72370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1748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2370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1748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2992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72370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1748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299280" y="-3196800"/>
            <a:ext cx="277344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599840" y="111240"/>
            <a:ext cx="747252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72370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1748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2992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72370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1748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299280" y="-3196800"/>
            <a:ext cx="277344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599840" y="111240"/>
            <a:ext cx="747252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99280" y="-3196800"/>
            <a:ext cx="277344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72370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1748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2992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72370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1748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99840" y="111240"/>
            <a:ext cx="747252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99280" y="-3196800"/>
            <a:ext cx="277344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370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1748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992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72370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1748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99280" y="-3196800"/>
            <a:ext cx="277344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599840" y="111240"/>
            <a:ext cx="747252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2370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1748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992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72370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1748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99280" y="-3196800"/>
            <a:ext cx="277344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599840" y="111240"/>
            <a:ext cx="747252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2370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1748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992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72370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1748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299280" y="-3196800"/>
            <a:ext cx="277344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599840" y="111240"/>
            <a:ext cx="747252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99840" y="111240"/>
            <a:ext cx="747252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2370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1748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992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72370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1748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299280" y="-3196800"/>
            <a:ext cx="277344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599840" y="111240"/>
            <a:ext cx="747252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2370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1748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2992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72370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1748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299280" y="-3196800"/>
            <a:ext cx="277344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599840" y="111240"/>
            <a:ext cx="747252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72370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1748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992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72370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1748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299280" y="-3196800"/>
            <a:ext cx="277344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599840" y="111240"/>
            <a:ext cx="747252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99280" y="5229720"/>
            <a:ext cx="27734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7720560" y="-1361268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29928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7720560" y="5229720"/>
            <a:ext cx="135324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2370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174880" y="-1361268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992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72370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174880" y="5229720"/>
            <a:ext cx="892800" cy="1720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299280" y="-3196800"/>
            <a:ext cx="277344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99280" y="-13612680"/>
            <a:ext cx="27734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-162360"/>
            <a:ext cx="4919400" cy="3976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282b1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282b1c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3924000"/>
            <a:ext cx="4919400" cy="17138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282b1c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282b1c"/>
              </a:solidFill>
              <a:latin typeface="Gill Sans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282b1c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282b1c"/>
              </a:solidFill>
              <a:latin typeface="Gill Sans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282b1c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282b1c"/>
              </a:solidFill>
              <a:latin typeface="Gill Sans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282b1c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282b1c"/>
              </a:solidFill>
              <a:latin typeface="Gill Sans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282b1c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282b1c"/>
              </a:solidFill>
              <a:latin typeface="Gill Sans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282b1c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282b1c"/>
              </a:solidFill>
              <a:latin typeface="Gill Sans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282b1c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282b1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599840" y="-275040"/>
            <a:ext cx="7472520" cy="816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50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1" marL="343080" indent="-343080">
              <a:spcBef>
                <a:spcPts val="50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2" marL="343080" indent="-343080">
              <a:spcBef>
                <a:spcPts val="50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3" marL="343080" indent="-343080">
              <a:spcBef>
                <a:spcPts val="50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4" marL="343080" indent="-343080">
              <a:spcBef>
                <a:spcPts val="50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5" marL="343080" indent="-343080">
              <a:spcBef>
                <a:spcPts val="50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6" marL="343080" indent="-343080">
              <a:spcBef>
                <a:spcPts val="50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292c1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599840" y="1305000"/>
            <a:ext cx="7472520" cy="6238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1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2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3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4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5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6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292c1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599840" y="2146320"/>
            <a:ext cx="7472520" cy="6238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>
              <a:spcBef>
                <a:spcPts val="31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1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2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3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4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5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6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44160" y="1382400"/>
            <a:ext cx="8170920" cy="243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0" spc="-1" strike="noStrike">
                <a:solidFill>
                  <a:srgbClr val="282b1c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282b1c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44160" y="3924000"/>
            <a:ext cx="8170920" cy="5437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282b1c"/>
              </a:solidFill>
              <a:latin typeface="Gill Sans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282b1c"/>
              </a:solidFill>
              <a:latin typeface="Gill Sans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282b1c"/>
              </a:solidFill>
              <a:latin typeface="Gill Sans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282b1c"/>
              </a:solidFill>
              <a:latin typeface="Gill Sans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282b1c"/>
              </a:solidFill>
              <a:latin typeface="Gill Sans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282b1c"/>
              </a:solidFill>
              <a:latin typeface="Gill Sans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282b1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44160" y="2590560"/>
            <a:ext cx="8170920" cy="243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0" spc="-1" strike="noStrike">
                <a:solidFill>
                  <a:srgbClr val="282b1c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282b1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292c1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599840" y="-13612680"/>
            <a:ext cx="342108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1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2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3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4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5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6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44160" y="5335200"/>
            <a:ext cx="8170920" cy="2025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282b1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282b1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292c1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599840" y="-13612680"/>
            <a:ext cx="342108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1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2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3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4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5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6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99840" y="111240"/>
            <a:ext cx="747252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292c1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299280" y="-13612680"/>
            <a:ext cx="2773440" cy="3607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0">
              <a:spcBef>
                <a:spcPts val="31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1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2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3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4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5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lvl="6" marL="343080" indent="-343080">
              <a:spcBef>
                <a:spcPts val="31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hyperlink" Target="http://www.pompejanska.rosemaria.pl/" TargetMode="External"/><Relationship Id="rId4" Type="http://schemas.openxmlformats.org/officeDocument/2006/relationships/hyperlink" Target="http://www.pompejanska.pl/" TargetMode="External"/><Relationship Id="rId5" Type="http://schemas.openxmlformats.org/officeDocument/2006/relationships/hyperlink" Target="http://www.santuario.it/" TargetMode="External"/><Relationship Id="rId6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osemaria.pl/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mpejanska.rosemaria.pl/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hyperlink" Target="http://www.bartolo-longo.pl/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5940360" y="1079640"/>
            <a:ext cx="3421080" cy="4475160"/>
            <a:chOff x="5940360" y="1079640"/>
            <a:chExt cx="3421080" cy="4475160"/>
          </a:xfrm>
        </p:grpSpPr>
        <p:pic>
          <p:nvPicPr>
            <p:cNvPr id="451" name="" descr=""/>
            <p:cNvPicPr/>
            <p:nvPr/>
          </p:nvPicPr>
          <p:blipFill>
            <a:blip r:embed="rId2"/>
            <a:srcRect l="0" t="2010" r="0" b="2051"/>
            <a:stretch/>
          </p:blipFill>
          <p:spPr>
            <a:xfrm>
              <a:off x="6067440" y="1206360"/>
              <a:ext cx="3166920" cy="423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3"/>
            <a:stretch/>
          </p:blipFill>
          <p:spPr>
            <a:xfrm>
              <a:off x="5940360" y="1079640"/>
              <a:ext cx="3421080" cy="447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1320" y="820440"/>
            <a:ext cx="4927320" cy="3002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7000" spc="-1" strike="noStrike">
                <a:solidFill>
                  <a:srgbClr val="282b1c"/>
                </a:solidFill>
                <a:latin typeface="Gill Sans"/>
              </a:rPr>
              <a:t>Nowenna</a:t>
            </a:r>
            <a:br>
              <a:rPr sz="7000"/>
            </a:br>
            <a:r>
              <a:rPr b="0" lang="pl-PL" sz="7000" spc="-1" strike="noStrike">
                <a:solidFill>
                  <a:srgbClr val="282b1c"/>
                </a:solidFill>
                <a:latin typeface="Gill Sans"/>
              </a:rPr>
              <a:t>pompejańska</a:t>
            </a:r>
            <a:endParaRPr b="0" lang="en-US" sz="7000" spc="-1" strike="noStrike">
              <a:solidFill>
                <a:srgbClr val="282b1c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71320" y="4470120"/>
            <a:ext cx="4927320" cy="22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282b1c"/>
                </a:solidFill>
                <a:latin typeface="Gill Sans"/>
              </a:rPr>
              <a:t>Wszystko co trzeba wiedzieć </a:t>
            </a:r>
            <a:br>
              <a:rPr sz="3200"/>
            </a:br>
            <a:r>
              <a:rPr b="0" lang="pl-PL" sz="3200" spc="-1" strike="noStrike">
                <a:solidFill>
                  <a:srgbClr val="282b1c"/>
                </a:solidFill>
                <a:latin typeface="Gill Sans"/>
              </a:rPr>
              <a:t>o nowennie nie do odparcia!</a:t>
            </a:r>
            <a:endParaRPr b="0" lang="en-US" sz="3200" spc="-1" strike="noStrike">
              <a:solidFill>
                <a:srgbClr val="282b1c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09400" y="109080"/>
            <a:ext cx="803916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400" spc="-1" strike="noStrike">
                <a:solidFill>
                  <a:srgbClr val="292c1f"/>
                </a:solidFill>
                <a:latin typeface="Gill Sans"/>
              </a:rPr>
              <a:t>Wdzięczność </a:t>
            </a:r>
            <a:br>
              <a:rPr sz="6400"/>
            </a:br>
            <a:r>
              <a:rPr b="0" lang="pl-PL" sz="6400" spc="-1" strike="noStrike">
                <a:solidFill>
                  <a:srgbClr val="292c1f"/>
                </a:solidFill>
                <a:latin typeface="Gill Sans"/>
              </a:rPr>
              <a:t>na wieki</a:t>
            </a: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600200" y="2145960"/>
            <a:ext cx="7696080" cy="494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292c1f"/>
                </a:solidFill>
                <a:latin typeface="Gill Sans"/>
              </a:rPr>
              <a:t>Pamiętaj o swojej obietnicy!</a:t>
            </a: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 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Modląc się nowenną pompejańską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składasz Maryi obietnice, że będziesz: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buClr>
                <a:srgbClr val="292c1f"/>
              </a:buClr>
              <a:buSzPct val="125000"/>
              <a:buFont typeface="Gill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rozszerzać cześć Matki Bożej Pompejańskiej, 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buClr>
                <a:srgbClr val="292c1f"/>
              </a:buClr>
              <a:buSzPct val="125000"/>
              <a:buFont typeface="Gill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opowiadać o otrzymanych łaskach,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buClr>
                <a:srgbClr val="292c1f"/>
              </a:buClr>
              <a:buSzPct val="125000"/>
              <a:buFont typeface="Gill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w miarę sił rozszerzać nabożeństwo do różańca świętego, 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buClr>
                <a:srgbClr val="292c1f"/>
              </a:buClr>
              <a:buSzPct val="125000"/>
              <a:buFont typeface="Gill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zachęcać grzeszników do zwracania się do Maryi.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6297480" y="2143080"/>
            <a:ext cx="351792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584280" y="101520"/>
            <a:ext cx="9410760" cy="74296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99840" y="939600"/>
            <a:ext cx="7480440" cy="201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400" spc="-1" strike="noStrike">
                <a:solidFill>
                  <a:srgbClr val="eeffb3"/>
                </a:solidFill>
                <a:latin typeface="Gill Sans"/>
              </a:rPr>
              <a:t>Tajemnice różańca</a:t>
            </a: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87" name=""/>
          <p:cNvSpPr/>
          <p:nvPr/>
        </p:nvSpPr>
        <p:spPr>
          <a:xfrm>
            <a:off x="1295280" y="2743200"/>
            <a:ext cx="3619800" cy="4559400"/>
          </a:xfrm>
          <a:custGeom>
            <a:avLst/>
            <a:gdLst>
              <a:gd name="textAreaLeft" fmla="*/ 55440 w 3619800"/>
              <a:gd name="textAreaRight" fmla="*/ 3564360 w 3619800"/>
              <a:gd name="textAreaTop" fmla="*/ 55440 h 4559400"/>
              <a:gd name="textAreaBottom" fmla="*/ 4503960 h 4559400"/>
            </a:gdLst>
            <a:ahLst/>
            <a:rect l="textAreaLeft" t="textAreaTop" r="textAreaRight" b="textAreaBottom"/>
            <a:pathLst>
              <a:path w="21600" h="27206">
                <a:moveTo>
                  <a:pt x="1136" y="0"/>
                </a:moveTo>
                <a:arcTo wR="1136" hR="1136" stAng="16200000" swAng="-5400000"/>
                <a:lnTo>
                  <a:pt x="0" y="26070"/>
                </a:lnTo>
                <a:arcTo wR="1136" hR="1136" stAng="10800000" swAng="-5400000"/>
                <a:lnTo>
                  <a:pt x="20464" y="27206"/>
                </a:lnTo>
                <a:arcTo wR="1136" hR="1136" stAng="5400000" swAng="-5400000"/>
                <a:lnTo>
                  <a:pt x="21600" y="1136"/>
                </a:lnTo>
                <a:arcTo wR="1136" hR="1136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2556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88" name=""/>
          <p:cNvSpPr/>
          <p:nvPr/>
        </p:nvSpPr>
        <p:spPr>
          <a:xfrm>
            <a:off x="5778360" y="2743200"/>
            <a:ext cx="3619800" cy="4559400"/>
          </a:xfrm>
          <a:custGeom>
            <a:avLst/>
            <a:gdLst>
              <a:gd name="textAreaLeft" fmla="*/ 55440 w 3619800"/>
              <a:gd name="textAreaRight" fmla="*/ 3564360 w 3619800"/>
              <a:gd name="textAreaTop" fmla="*/ 55440 h 4559400"/>
              <a:gd name="textAreaBottom" fmla="*/ 4503960 h 4559400"/>
            </a:gdLst>
            <a:ahLst/>
            <a:rect l="textAreaLeft" t="textAreaTop" r="textAreaRight" b="textAreaBottom"/>
            <a:pathLst>
              <a:path w="21600" h="27206">
                <a:moveTo>
                  <a:pt x="1136" y="0"/>
                </a:moveTo>
                <a:arcTo wR="1136" hR="1136" stAng="16200000" swAng="-5400000"/>
                <a:lnTo>
                  <a:pt x="0" y="26070"/>
                </a:lnTo>
                <a:arcTo wR="1136" hR="1136" stAng="10800000" swAng="-5400000"/>
                <a:lnTo>
                  <a:pt x="20464" y="27206"/>
                </a:lnTo>
                <a:arcTo wR="1136" hR="1136" stAng="5400000" swAng="-5400000"/>
                <a:lnTo>
                  <a:pt x="21600" y="1136"/>
                </a:lnTo>
                <a:arcTo wR="1136" hR="1136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2556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9640" y="2771640"/>
            <a:ext cx="360036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Gill Sans"/>
              </a:rPr>
              <a:t>Tajemnice radosne: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</a:rPr>
              <a:t>Zwiastowanie NMP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</a:rPr>
              <a:t>Nawiedzenie św. Elżbiety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</a:rPr>
              <a:t>Narodzenie Pana Jezusa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</a:rPr>
              <a:t>Ofiarowanie Pana Jezusa w Świątyni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</a:rPr>
              <a:t>Odnalezienie Pana Jezusa w Świątyni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Gill Sans"/>
              </a:rPr>
              <a:t>Tajemnice światła: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</a:rPr>
              <a:t>Chrzest Jezusa w wodach Jordanu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</a:rPr>
              <a:t>Objawienie chwały na weselu w Kanie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</a:rPr>
              <a:t>Głoszenie Królestwa Bożego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Gill Sans"/>
              </a:rPr>
              <a:t>i wzywanie do nawrócenia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</a:rPr>
              <a:t>Przemienienie na górze Tabor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</a:rPr>
              <a:t>Eucharystia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5940360" y="2760840"/>
            <a:ext cx="341964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Tajemnice bolesne: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Modlitwa Pana Jezusa w Ogrójcu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Biczowanie Pana Jezusa.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Cierniem ukoronowanie Pana Jezusa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Droga krzyżowa Pana Jezusa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Ukrzyżowanie i śmierć Pana Jezusa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Tajemnice chwalebne: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Zmartwychwstanie Pana Jezusa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Wniebowstąpienie Pana Jezusa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Zesłanie Ducha Świętego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Wniebowzięcie NMP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Ukoronowanie NMP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na Królową Nieba i Ziemi</a:t>
            </a:r>
            <a:endParaRPr b="0" lang="en-US" sz="17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99840" y="109080"/>
            <a:ext cx="74804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400" spc="-1" strike="noStrike">
                <a:solidFill>
                  <a:srgbClr val="292c1f"/>
                </a:solidFill>
                <a:latin typeface="Gill Sans"/>
              </a:rPr>
              <a:t>Cudowny obraz </a:t>
            </a:r>
            <a:br>
              <a:rPr sz="6400"/>
            </a:br>
            <a:r>
              <a:rPr b="0" lang="pl-PL" sz="6400" spc="-1" strike="noStrike">
                <a:solidFill>
                  <a:srgbClr val="292c1f"/>
                </a:solidFill>
                <a:latin typeface="Gill Sans"/>
              </a:rPr>
              <a:t>MB Pompejańskiej</a:t>
            </a: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00200" y="2145960"/>
            <a:ext cx="4432320" cy="4584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W czasie odmawiania nowenny warto mieć przy sobie obrazek Matki Bożej Pompejańskiej.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Jest to cudowny wizerunek Maryi ze świątyni w Pompejach. Choć trudno uwierzyć, to faktem jest to, że przyjechał on do budowanego kościoła na stercie obornika!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Bartolo Longo z braku pieniędzy nie kupił nowego obrazu, ale kazał zrekonstruować ten stary, bardzo zniszczony wizerunek Maryi.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291360" y="2700360"/>
            <a:ext cx="3421080" cy="4475160"/>
            <a:chOff x="6291360" y="2700360"/>
            <a:chExt cx="3421080" cy="4475160"/>
          </a:xfrm>
        </p:grpSpPr>
        <p:pic>
          <p:nvPicPr>
            <p:cNvPr id="494" name="" descr=""/>
            <p:cNvPicPr/>
            <p:nvPr/>
          </p:nvPicPr>
          <p:blipFill>
            <a:blip r:embed="rId2"/>
            <a:srcRect l="0" t="2010" r="0" b="2051"/>
            <a:stretch/>
          </p:blipFill>
          <p:spPr>
            <a:xfrm>
              <a:off x="6418440" y="2827440"/>
              <a:ext cx="3166920" cy="42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3"/>
            <a:stretch/>
          </p:blipFill>
          <p:spPr>
            <a:xfrm>
              <a:off x="6291360" y="2700360"/>
              <a:ext cx="3421080" cy="4475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558720" y="114480"/>
            <a:ext cx="9334440" cy="74167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619280" y="5994360"/>
            <a:ext cx="7575480" cy="1282680"/>
          </a:xfrm>
          <a:prstGeom prst="roundRect">
            <a:avLst>
              <a:gd name="adj" fmla="val 14847"/>
            </a:avLst>
          </a:prstGeom>
          <a:solidFill>
            <a:srgbClr val="ffffff">
              <a:alpha val="80000"/>
            </a:srgbClr>
          </a:solidFill>
          <a:ln w="2556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99840" y="79200"/>
            <a:ext cx="7480440" cy="202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400" spc="-1" strike="noStrike">
                <a:solidFill>
                  <a:srgbClr val="0b0c08"/>
                </a:solidFill>
                <a:latin typeface="Gill Sans"/>
              </a:rPr>
              <a:t>Gdzie złożyć świadectwo?</a:t>
            </a: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599840" y="2006640"/>
            <a:ext cx="7480440" cy="3620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eeffb3"/>
                </a:solidFill>
                <a:latin typeface="Gill Sans"/>
              </a:rPr>
              <a:t>Świadectwa o otrzymanych łaskach </a:t>
            </a:r>
            <a:br>
              <a:rPr sz="2200"/>
            </a:br>
            <a:r>
              <a:rPr b="0" lang="pl-PL" sz="2200" spc="-1" strike="noStrike">
                <a:solidFill>
                  <a:srgbClr val="eeffb3"/>
                </a:solidFill>
                <a:latin typeface="Gill Sans"/>
              </a:rPr>
              <a:t>możesz złożyć m.in. na tych stronach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701"/>
              </a:spcBef>
              <a:buClr>
                <a:srgbClr val="009999"/>
              </a:buClr>
              <a:buSzPct val="125000"/>
              <a:buFont typeface="Gill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 u="sng">
                <a:solidFill>
                  <a:srgbClr val="ccccff"/>
                </a:solidFill>
                <a:uFillTx/>
                <a:latin typeface="Gill Sans"/>
                <a:hlinkClick r:id="rId3"/>
              </a:rPr>
              <a:t>www.pompejanska.rosemaria.p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701"/>
              </a:spcBef>
              <a:buClr>
                <a:srgbClr val="009999"/>
              </a:buClr>
              <a:buSzPct val="125000"/>
              <a:buFont typeface="Gill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 u="sng">
                <a:solidFill>
                  <a:srgbClr val="ccccff"/>
                </a:solidFill>
                <a:uFillTx/>
                <a:latin typeface="Gill Sans"/>
                <a:hlinkClick r:id="rId4"/>
              </a:rPr>
              <a:t>www.pompejanska.p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eeffb3"/>
                </a:solidFill>
                <a:latin typeface="Gill Sans"/>
              </a:rPr>
              <a:t>Ale pamiętaj, by świadczyć o łaskach przed wszystkimi, </a:t>
            </a:r>
            <a:br>
              <a:rPr sz="2200"/>
            </a:br>
            <a:r>
              <a:rPr b="0" lang="pl-PL" sz="2200" spc="-1" strike="noStrike">
                <a:solidFill>
                  <a:srgbClr val="eeffb3"/>
                </a:solidFill>
                <a:latin typeface="Gill Sans"/>
              </a:rPr>
              <a:t>a szczególnie przed grzesznikami, których Pan Bóg </a:t>
            </a:r>
            <a:br>
              <a:rPr sz="2200"/>
            </a:br>
            <a:r>
              <a:rPr b="0" lang="pl-PL" sz="2200" spc="-1" strike="noStrike">
                <a:solidFill>
                  <a:srgbClr val="eeffb3"/>
                </a:solidFill>
                <a:latin typeface="Gill Sans"/>
              </a:rPr>
              <a:t>postawi na Twojej drodze.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>
            <a:off x="1981080" y="6121440"/>
            <a:ext cx="759456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44933"/>
                </a:solidFill>
                <a:latin typeface="Gill Sans"/>
                <a:ea typeface="Gill Sans"/>
              </a:rPr>
              <a:t>Jeśli otrzymasz łaskę za wstawiennictwem Bartola Longa, </a:t>
            </a:r>
            <a:br>
              <a:rPr sz="2200"/>
            </a:br>
            <a:r>
              <a:rPr b="0" lang="pl-PL" sz="2200" spc="-1" strike="noStrike">
                <a:solidFill>
                  <a:srgbClr val="444933"/>
                </a:solidFill>
                <a:latin typeface="Gill Sans"/>
                <a:ea typeface="Gill Sans"/>
              </a:rPr>
              <a:t>zgłoś to w sanktuarium w Pompejach (</a:t>
            </a:r>
            <a:r>
              <a:rPr b="0" lang="pl-PL" sz="2200" spc="-1" strike="noStrike" u="sng">
                <a:solidFill>
                  <a:srgbClr val="ccccff"/>
                </a:solidFill>
                <a:uFillTx/>
                <a:latin typeface="Gill Sans"/>
                <a:ea typeface="Gill Sans"/>
                <a:hlinkClick r:id="rId5"/>
              </a:rPr>
              <a:t>www.santuario.it</a:t>
            </a:r>
            <a:r>
              <a:rPr b="0" lang="pl-PL" sz="2200" spc="-1" strike="noStrike">
                <a:solidFill>
                  <a:srgbClr val="444933"/>
                </a:solidFill>
                <a:latin typeface="Gill Sans"/>
                <a:ea typeface="Gill Sans"/>
              </a:rPr>
              <a:t>), </a:t>
            </a:r>
            <a:br>
              <a:rPr sz="2200"/>
            </a:br>
            <a:r>
              <a:rPr b="0" lang="pl-PL" sz="2200" spc="-1" strike="noStrike">
                <a:solidFill>
                  <a:srgbClr val="444933"/>
                </a:solidFill>
                <a:latin typeface="Gill Sans"/>
                <a:ea typeface="Gill Sans"/>
              </a:rPr>
              <a:t>ponieważ trwa proces kanonizacyjny tego błogosławionego!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201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400" spc="-1" strike="noStrike">
                <a:solidFill>
                  <a:srgbClr val="292c1f"/>
                </a:solidFill>
                <a:latin typeface="Gill Sans"/>
              </a:rPr>
              <a:t>Więcej wiadomości</a:t>
            </a: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35360" y="1885680"/>
            <a:ext cx="45849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Więcej wiadomości o nowennie pompejańskiej, świadectwach, historii sanktuarium, objawieniach Matki Bożej Różańcowej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w Pompejach i Neapolu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możesz przeczytać w książce,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którą napisał bł. Bartolo Longo. 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Jej tytuł to: „Cuda i łaski Królowej Różańca Świętego w Pompejach”.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Książka liczy 368 stron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i jest dostępna na stronie </a:t>
            </a:r>
            <a:r>
              <a:rPr b="0" lang="pl-PL" sz="2200" spc="-1" strike="noStrike" u="sng">
                <a:solidFill>
                  <a:srgbClr val="ccccff"/>
                </a:solidFill>
                <a:uFillTx/>
                <a:latin typeface="Gill Sans"/>
                <a:hlinkClick r:id="rId2"/>
              </a:rPr>
              <a:t>www.rosemaria.pl</a:t>
            </a: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 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1231920" y="2340000"/>
            <a:ext cx="2908440" cy="3911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201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400" spc="-1" strike="noStrike">
                <a:solidFill>
                  <a:srgbClr val="292c1f"/>
                </a:solidFill>
                <a:latin typeface="Gill Sans"/>
              </a:rPr>
              <a:t>Strona o nowennie</a:t>
            </a: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599840" y="1803240"/>
            <a:ext cx="748044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300" spc="-1" strike="noStrike">
                <a:solidFill>
                  <a:srgbClr val="292c1f"/>
                </a:solidFill>
                <a:latin typeface="Gill Sans"/>
              </a:rPr>
              <a:t>Odwiedź nasz blog</a:t>
            </a:r>
            <a:endParaRPr b="0" lang="en-US" sz="3300" spc="-1" strike="noStrike">
              <a:solidFill>
                <a:srgbClr val="292c1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300" spc="-1" strike="noStrike" u="sng">
                <a:solidFill>
                  <a:srgbClr val="ccccff"/>
                </a:solidFill>
                <a:uFillTx/>
                <a:latin typeface="Gill Sans"/>
                <a:hlinkClick r:id="rId2"/>
              </a:rPr>
              <a:t>www.pompejanska.rosemaria.pl</a:t>
            </a:r>
            <a:endParaRPr b="0" lang="en-US" sz="4300" spc="-1" strike="noStrike">
              <a:solidFill>
                <a:srgbClr val="292c1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300" spc="-1" strike="noStrike">
              <a:solidFill>
                <a:srgbClr val="292c1f"/>
              </a:solidFill>
              <a:latin typeface="Gill Sans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5851440" y="3919680"/>
            <a:ext cx="3787920" cy="32382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76188" dir="2273923" blurRad="0" rotWithShape="0">
              <a:srgbClr val="1b1b1b">
                <a:alpha val="75000"/>
              </a:srgbClr>
            </a:outerShdw>
          </a:effectLst>
        </p:spPr>
      </p:pic>
      <p:sp>
        <p:nvSpPr>
          <p:cNvPr id="507" name=""/>
          <p:cNvSpPr/>
          <p:nvPr/>
        </p:nvSpPr>
        <p:spPr>
          <a:xfrm>
            <a:off x="1093680" y="4324320"/>
            <a:ext cx="417852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300" spc="-1" strike="noStrike">
                <a:solidFill>
                  <a:srgbClr val="292c1f"/>
                </a:solidFill>
                <a:latin typeface="Gill Sans"/>
                <a:ea typeface="Gill Sans"/>
              </a:rPr>
              <a:t>– </a:t>
            </a:r>
            <a:r>
              <a:rPr b="0" lang="pl-PL" sz="3300" spc="-1" strike="noStrike">
                <a:solidFill>
                  <a:srgbClr val="292c1f"/>
                </a:solidFill>
                <a:latin typeface="Gill Sans"/>
                <a:ea typeface="Gill Sans"/>
              </a:rPr>
              <a:t>podziel się </a:t>
            </a:r>
            <a:br>
              <a:rPr sz="3300"/>
            </a:br>
            <a:r>
              <a:rPr b="0" lang="pl-PL" sz="3300" spc="-1" strike="noStrike">
                <a:solidFill>
                  <a:srgbClr val="292c1f"/>
                </a:solidFill>
                <a:latin typeface="Gill Sans"/>
                <a:ea typeface="Gill Sans"/>
              </a:rPr>
              <a:t>swoim świadectwem </a:t>
            </a:r>
            <a:br>
              <a:rPr sz="3300"/>
            </a:br>
            <a:r>
              <a:rPr b="0" lang="pl-PL" sz="3300" spc="-1" strike="noStrike">
                <a:solidFill>
                  <a:srgbClr val="292c1f"/>
                </a:solidFill>
                <a:latin typeface="Gill Sans"/>
                <a:ea typeface="Gill Sans"/>
              </a:rPr>
              <a:t>albo wątpliwościami :)</a:t>
            </a:r>
            <a:endParaRPr b="0" lang="en-US" sz="3300" spc="-1" strike="noStrike">
              <a:solidFill>
                <a:srgbClr val="292c1f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584280" y="101520"/>
            <a:ext cx="9448560" cy="744228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188120" cy="201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400" spc="-1" strike="noStrike">
                <a:solidFill>
                  <a:srgbClr val="292c1f"/>
                </a:solidFill>
                <a:latin typeface="Gill Sans"/>
              </a:rPr>
              <a:t>Historia   nowenny</a:t>
            </a: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>
            <a:off x="1260360" y="3606840"/>
            <a:ext cx="8099640" cy="3773520"/>
          </a:xfrm>
          <a:prstGeom prst="roundRect">
            <a:avLst>
              <a:gd name="adj" fmla="val 5222"/>
            </a:avLst>
          </a:prstGeom>
          <a:solidFill>
            <a:srgbClr val="ffffff">
              <a:alpha val="75000"/>
            </a:srgbClr>
          </a:solidFill>
          <a:ln w="2556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599840" y="3352680"/>
            <a:ext cx="7480440" cy="4191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Nowennę pompejańską dała nam sama Maryja pod koniec XIX wieku. Kiedy objawiła się ciężko chorej dziewczynie, Fortunatinie Agrelli, powiedziała: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„</a:t>
            </a: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Ktokolwiek pragnie otrzymać łaski, niech odprawi na moją cześć trzy nowenny odmawiając piętnaście tajemnic różańca,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a potem niech odmówi znowu trzy nowenny dziękczynne.”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Ta obietnica Matki Bożej oraz liczne łaski otrzymywane poprzez nowennę powodują, że nowennę pompejańską zwiemy </a:t>
            </a:r>
            <a:r>
              <a:rPr b="1" lang="pl-PL" sz="2200" spc="-1" strike="noStrike">
                <a:solidFill>
                  <a:srgbClr val="292c1f"/>
                </a:solidFill>
                <a:latin typeface="Gill Sans"/>
              </a:rPr>
              <a:t>nowenną nie do odparcia</a:t>
            </a: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. 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201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400" spc="-1" strike="noStrike">
                <a:solidFill>
                  <a:srgbClr val="292c1f"/>
                </a:solidFill>
                <a:latin typeface="Gill Sans"/>
              </a:rPr>
              <a:t>bł. Bartolo Longo</a:t>
            </a: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600200" y="2145960"/>
            <a:ext cx="49658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7000"/>
          </a:bodyPr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To objawienie Maryi było ściśle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związane z budową sanktuarium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Matki Bożej Różańcowej w Pompejach. 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Choć trudno w to uwierzyć,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w zamierzeniu miał być to malutki kościółek, który chciał zbudować nawrócony kapłan satanizmu, adwokat </a:t>
            </a:r>
            <a:r>
              <a:rPr b="1" lang="pl-PL" sz="2200" spc="-1" strike="noStrike">
                <a:solidFill>
                  <a:srgbClr val="292c1f"/>
                </a:solidFill>
                <a:latin typeface="Gill Sans"/>
              </a:rPr>
              <a:t>Bartolo Longo</a:t>
            </a: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. Mimo że zbierał groszowe datki, to w ciągu dwóch dekad powstał potężny i wspaniały kościół, sierocińce, zakłady pracy, szkoły.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6892920" y="2158920"/>
            <a:ext cx="2806560" cy="35053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877440" y="5668200"/>
            <a:ext cx="28522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200" spc="-1" strike="noStrike">
                <a:solidFill>
                  <a:srgbClr val="292c1f"/>
                </a:solidFill>
                <a:latin typeface="Gill Sans"/>
                <a:ea typeface="Gill Sans"/>
              </a:rPr>
              <a:t>bł. Bartolo Longo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 u="sng">
                <a:solidFill>
                  <a:srgbClr val="ccccff"/>
                </a:solidFill>
                <a:uFillTx/>
                <a:latin typeface="Gill Sans"/>
                <a:ea typeface="Gill Sans"/>
                <a:hlinkClick r:id="rId3"/>
              </a:rPr>
              <a:t>www.bartolo-longo.pl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99840" y="109080"/>
            <a:ext cx="74804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400" spc="-1" strike="noStrike">
                <a:solidFill>
                  <a:srgbClr val="292c1f"/>
                </a:solidFill>
                <a:latin typeface="Gill Sans"/>
              </a:rPr>
              <a:t>Sanktuarium </a:t>
            </a:r>
            <a:br>
              <a:rPr sz="6400"/>
            </a:br>
            <a:r>
              <a:rPr b="0" lang="pl-PL" sz="6400" spc="-1" strike="noStrike">
                <a:solidFill>
                  <a:srgbClr val="292c1f"/>
                </a:solidFill>
                <a:latin typeface="Gill Sans"/>
              </a:rPr>
              <a:t>w Pompejach</a:t>
            </a: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600200" y="2082960"/>
            <a:ext cx="7734240" cy="2146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To dzieło Maryja hojnie wspierała i wspiera nadal wielkimi łaskami. Trzeba tu zaznaczyć, że czasie budowy kościoła objawiała się jako </a:t>
            </a:r>
            <a:r>
              <a:rPr b="1" lang="pl-PL" sz="2200" spc="-1" strike="noStrike">
                <a:solidFill>
                  <a:srgbClr val="292c1f"/>
                </a:solidFill>
                <a:latin typeface="Gill Sans"/>
              </a:rPr>
              <a:t>Matka Boża Różańcowa</a:t>
            </a: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. Cała ta inicjatywa jest silnie związana z różańcem i miesiącem październikiem.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1969920" y="3781440"/>
            <a:ext cx="4768920" cy="31622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6763320" y="6338520"/>
            <a:ext cx="30823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200" spc="-1" strike="noStrike">
                <a:solidFill>
                  <a:srgbClr val="292c1f"/>
                </a:solidFill>
                <a:latin typeface="Gill Sans"/>
                <a:ea typeface="Gill Sans"/>
              </a:rPr>
              <a:t>Sanktuarium różańcowe 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200" spc="-1" strike="noStrike">
                <a:solidFill>
                  <a:srgbClr val="292c1f"/>
                </a:solidFill>
                <a:latin typeface="Gill Sans"/>
                <a:ea typeface="Gill Sans"/>
              </a:rPr>
              <a:t>w Pompejach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6985080" y="3778200"/>
            <a:ext cx="2577960" cy="2467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6486480" y="101520"/>
            <a:ext cx="3413160" cy="29592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09760" y="114480"/>
            <a:ext cx="5070240" cy="2046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400" spc="-1" strike="noStrike">
                <a:solidFill>
                  <a:srgbClr val="292c1f"/>
                </a:solidFill>
                <a:latin typeface="Gill Sans"/>
              </a:rPr>
              <a:t>Codzienny różaniec</a:t>
            </a: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99840" y="2161800"/>
            <a:ext cx="7480440" cy="4886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4000"/>
          </a:bodyPr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Nowennę pompejańską może odmawiać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każdy z tą pewnością, że otrzyma potrzebne łaski.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Obietnica Maryi jest ważna i spełnia się w każdej nowennie,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jeśli prosimy z pokorą o łaski a intencja nie jest związana z grzechem.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Każdy dzień nowenny składa się z trzech tajemnic różańca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oraz krótkiej modlitwy.  Tajemnice światła nie są  obowiązkowe, ale jeśli kto może, niech odmawia.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Choć odmówienie trzech części różańca wydaje się trudne,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to nie obawiaj się na zapas! Bardzo wiele osób modli się nowenną pompejańską, mimo że wcześniej nie umieli dobrze odmówić nawet jednej dziesiątki! 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09400" y="109080"/>
            <a:ext cx="803916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400" spc="-1" strike="noStrike">
                <a:solidFill>
                  <a:srgbClr val="292c1f"/>
                </a:solidFill>
                <a:latin typeface="Gill Sans"/>
              </a:rPr>
              <a:t>Jedna intencja, </a:t>
            </a:r>
            <a:br>
              <a:rPr sz="6400"/>
            </a:br>
            <a:r>
              <a:rPr b="0" lang="pl-PL" sz="6400" spc="-1" strike="noStrike">
                <a:solidFill>
                  <a:srgbClr val="292c1f"/>
                </a:solidFill>
                <a:latin typeface="Gill Sans"/>
              </a:rPr>
              <a:t>dwie części</a:t>
            </a: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99840" y="2273040"/>
            <a:ext cx="7480440" cy="460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9000"/>
          </a:bodyPr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Cała nowenna pompejańska trwa </a:t>
            </a:r>
            <a:r>
              <a:rPr b="1" lang="pl-PL" sz="2200" spc="-1" strike="noStrike">
                <a:solidFill>
                  <a:srgbClr val="292c1f"/>
                </a:solidFill>
                <a:latin typeface="Gill Sans"/>
              </a:rPr>
              <a:t>54 dni</a:t>
            </a: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i dzieli się na </a:t>
            </a:r>
            <a:r>
              <a:rPr b="1" lang="pl-PL" sz="2200" spc="-1" strike="noStrike">
                <a:solidFill>
                  <a:srgbClr val="292c1f"/>
                </a:solidFill>
                <a:latin typeface="Gill Sans"/>
              </a:rPr>
              <a:t>dwie części</a:t>
            </a: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: błagalną i dziękczynną. 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Każda z nich to trzy nowenny, czyli 3 x 9 dni = 27 dni. 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Aby się nie pogubić, warto zaznaczyć sobie w kalendarzu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czas trwania nowenny.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Nowennę pompejańską odmawiamy </a:t>
            </a:r>
            <a:r>
              <a:rPr b="1" lang="pl-PL" sz="2200" spc="-1" strike="noStrike">
                <a:solidFill>
                  <a:srgbClr val="292c1f"/>
                </a:solidFill>
                <a:latin typeface="Gill Sans"/>
              </a:rPr>
              <a:t>w jednej intencji</a:t>
            </a: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 przez cały czas jej trwania. Intencję tę podajemy przed różańcem wraz z inwokacją: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„</a:t>
            </a: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Ten różaniec odmawiam na Twoją cześć,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Królowo Różańca świętego.”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09400" y="114120"/>
            <a:ext cx="8039160" cy="201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400" spc="-1" strike="noStrike">
                <a:solidFill>
                  <a:srgbClr val="292c1f"/>
                </a:solidFill>
                <a:latin typeface="Gill Sans"/>
              </a:rPr>
              <a:t>Modlitwy różańcowe</a:t>
            </a: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36480" y="2133360"/>
            <a:ext cx="5676840" cy="4660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Po podaniu intencji i inwokacji, zaczynamy różaniec.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Modlitwy początkowe różańca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(</a:t>
            </a:r>
            <a:r>
              <a:rPr b="0" i="1" lang="pl-PL" sz="2200" spc="-1" strike="noStrike">
                <a:solidFill>
                  <a:srgbClr val="292c1f"/>
                </a:solidFill>
                <a:latin typeface="Gill Sans"/>
              </a:rPr>
              <a:t>Wierzę w Boga, Ojcze nasz, 3 Zdrowaś Maryjo, Chwała Ojcu</a:t>
            </a: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) odmawiamy </a:t>
            </a:r>
            <a:r>
              <a:rPr b="1" lang="pl-PL" sz="2200" spc="-1" strike="noStrike">
                <a:solidFill>
                  <a:srgbClr val="292c1f"/>
                </a:solidFill>
                <a:latin typeface="Gill Sans"/>
              </a:rPr>
              <a:t>jeden raz</a:t>
            </a: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,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przed pierwszym różańcem.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A po skończeniu każdej części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różańca modlimy się krótką modlitwą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(inna w części błagalnej i dziękczynnej)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oraz trzy razy mówimy: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 „</a:t>
            </a: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Królowo Różańca świętego,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módl się za nami!”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791400" y="2089080"/>
            <a:ext cx="3035160" cy="4432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571680" y="93600"/>
            <a:ext cx="5168880" cy="74422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09400" y="114120"/>
            <a:ext cx="8039160" cy="201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400" spc="-1" strike="noStrike">
                <a:solidFill>
                  <a:srgbClr val="292c1f"/>
                </a:solidFill>
                <a:latin typeface="Gill Sans"/>
              </a:rPr>
              <a:t>Modlitwa błagalna</a:t>
            </a: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99840" y="2120760"/>
            <a:ext cx="7480440" cy="4608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200" spc="-1" strike="noStrike">
                <a:solidFill>
                  <a:srgbClr val="292c1f"/>
                </a:solidFill>
                <a:latin typeface="Gill Sans"/>
              </a:rPr>
              <a:t>Po różańcu w części </a:t>
            </a:r>
            <a:r>
              <a:rPr b="1" i="1" lang="pl-PL" sz="2200" spc="-1" strike="noStrike">
                <a:solidFill>
                  <a:srgbClr val="292c1f"/>
                </a:solidFill>
                <a:latin typeface="Gill Sans"/>
              </a:rPr>
              <a:t>błagalnej</a:t>
            </a:r>
            <a:r>
              <a:rPr b="0" i="1" lang="pl-PL" sz="2200" spc="-1" strike="noStrike">
                <a:solidFill>
                  <a:srgbClr val="292c1f"/>
                </a:solidFill>
                <a:latin typeface="Gill Sans"/>
              </a:rPr>
              <a:t> modlimy się tak: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Pomnij o miłosierna Panno Różańcowa z Pompejów,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jako nigdy jeszcze nie słyszano, aby ktokolwiek z czcicieli Twoich, z Różańcem Twoim, pomocy Twojej wzywający,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miał być przez Ciebie opuszczony. 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  <a:ea typeface="Lucida Grande"/>
              </a:rPr>
              <a:t>Ach, nie gardź prośbą moją, o Matko Słowa Przedwiecznego, ale przez święty Twój różaniec i przez upodobanie,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jakie okazujesz dla Twojej świątyni w Pompejach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wysłuchaj mnie dobrotliwie. 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Amen.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09400" y="114120"/>
            <a:ext cx="8039160" cy="201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400" spc="-1" strike="noStrike">
                <a:solidFill>
                  <a:srgbClr val="292c1f"/>
                </a:solidFill>
                <a:latin typeface="Gill Sans"/>
              </a:rPr>
              <a:t>Modlitwa dziękczynna</a:t>
            </a:r>
            <a:endParaRPr b="0" lang="en-US" sz="6400" spc="-1" strike="noStrike">
              <a:solidFill>
                <a:srgbClr val="292c1f"/>
              </a:solidFill>
              <a:latin typeface="Gill Sans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735440" y="93600"/>
            <a:ext cx="5168880" cy="744228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7696080" cy="5119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200" spc="-1" strike="noStrike">
                <a:solidFill>
                  <a:srgbClr val="292c1f"/>
                </a:solidFill>
                <a:latin typeface="Gill Sans"/>
              </a:rPr>
              <a:t>A po różańcu w części </a:t>
            </a:r>
            <a:r>
              <a:rPr b="1" i="1" lang="pl-PL" sz="2200" spc="-1" strike="noStrike">
                <a:solidFill>
                  <a:srgbClr val="292c1f"/>
                </a:solidFill>
                <a:latin typeface="Gill Sans"/>
              </a:rPr>
              <a:t>dziękczynnej</a:t>
            </a:r>
            <a:r>
              <a:rPr b="0" i="1" lang="pl-PL" sz="2200" spc="-1" strike="noStrike">
                <a:solidFill>
                  <a:srgbClr val="292c1f"/>
                </a:solidFill>
                <a:latin typeface="Gill Sans"/>
              </a:rPr>
              <a:t> modlimy się tak: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Cóż Ci dać mogę, o Królowo pełna miłości? Moje całe życie poświęcam Tobie. Ile mi sił starczy, będę rozszerzać cześć Twoją, o Dziewico Różańca Świętego z Pompejów, bo gdy Twojej pomocy wezwałem, nawiedziła mnie łaska Boża. 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Wszędzie będę opowiadać o miłosierdziu, które mi wyświadczyłaś. O ile zdołam będę rozszerzać nabożeństwo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do Różańca Świętego, wszystkim głosić będę, jak dobrotliwie obeszłaś się ze mną, aby i niegodni, tak jak i ja, grzesznicy,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z zaufaniem do Ciebie się udawali. O, gdyby cały świat </a:t>
            </a:r>
            <a:br>
              <a:rPr sz="2200"/>
            </a:b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wiedział jak jesteś dobra, jaką masz litość nad cierpiącymi, wszystkie stworzenia uciekałyby się do Ciebie.  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292c1f"/>
                </a:solidFill>
                <a:latin typeface="Gill Sans"/>
              </a:rPr>
              <a:t>Amen.</a:t>
            </a:r>
            <a:endParaRPr b="0" lang="en-US" sz="2200" spc="-1" strike="noStrike">
              <a:solidFill>
                <a:srgbClr val="292c1f"/>
              </a:solidFill>
              <a:latin typeface="Gill Sans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9T10:39:53Z</dcterms:created>
  <dc:creator/>
  <dc:description>Wszystko co trzeba wiedzieć  o nowennie nie do odparcia!</dc:description>
  <cp:keywords>nowenna pompejańska</cp:keywords>
  <dc:language>en-US</dc:language>
  <cp:lastModifiedBy/>
  <cp:revision>1</cp:revision>
  <dc:subject/>
  <dc:title>Nowenna pompejańska</dc:title>
</cp:coreProperties>
</file>